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16A-BEB8-42B3-A61A-9E89E754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E30-D648-4499-8E11-D3B59C1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108BF-4CDE-4F8C-96D8-048F462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DE1B6-4ABE-4799-8FAE-E11967A2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B2CA2-616F-4A21-953A-98B50808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198C3-C430-4BF2-8AC9-0C57101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F5090-42DC-4FF7-9A5E-376BDBB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C926-A5FB-46EC-B688-B7A7385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F9172-3410-4B4C-8BDE-E0790BC5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4F00-C533-4D32-AE67-3A52C4A6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BB70E-2045-4EE0-8653-8CB32F7E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5E83C-BFC5-4E38-9185-C64F6683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B6A-3251-4139-9C2D-207E75B2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BAD79-9AD3-4D56-8946-1297D06F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23E08-E477-4F2D-8A84-4B7DB734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F2F2E-5BF5-4C42-BDE7-7948A60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99E2D-C0A4-4BFE-8995-6EEFB6E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644D5-B692-49AB-9335-568AFAD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064DC-EF16-488E-9C01-A333BE9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DA5A2-83D5-412E-A5BF-10BCD4D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F1C2-2449-4322-9A90-743B2F0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11D64-8F3C-40EE-AC50-0966755B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F65F5-249E-4132-B98D-07F60E51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971-CD09-49ED-8AEF-CDD0549F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826B9-AE7C-4F04-AA19-F794DAE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BF13-CFA6-451A-8346-81401E96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82DA7-2372-4628-A921-867B8E3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61367-D97F-4283-A067-EEFA803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7E635-BDE4-4A8E-9553-A35112E0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E6635-9BA4-4B35-A695-7D176E4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771E8-F441-4B49-AFCE-8B3AE723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D991-FA6B-455F-8AE3-06C0970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283C7-B4BE-461C-92EF-033F796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B9E6F-A192-471F-8C85-3950D81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B8D1-99AF-48F2-B8EC-5BFA253C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188A1-C9D4-4607-BF72-D6BAE6F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D05AD-C5A7-46F6-9076-82A82EDB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DFC8-8E52-43A2-89DE-63D828E7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25E24-462B-4404-9B60-4975DA3F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9ECAD-693C-4531-A6CE-481B20D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44F15-0B65-4D51-80FC-FCF3CDF1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7C170-A281-402D-A2DA-83EA0B1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D1EF-E41B-4F21-9C5D-A97A2CCA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33FD1-09FE-4729-B284-A92F5174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C47C5-62F0-4B73-AB0E-8A408FEF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A2BD-291A-4EBB-BDE2-6489564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737A-EA1F-4FCA-8D02-A7B7ECF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6359B-5289-4855-A882-59BF180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0F1C7-8374-411B-BF35-FFE5C622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B44BE-A045-4E7B-9923-3EE45D43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B9298-3377-47CD-956E-07A11055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6E2-F4C6-4CFA-83A6-B1B4A36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1EE5-17B6-4B03-B22D-A4603A9F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09D-3C8A-4D05-B887-E8A6088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218C-0753-4C22-9C1F-D945842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A267-C1C5-44D7-AA6F-532F080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C33-09C0-4223-9E9F-C917E36C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CC6-DE0E-4DE4-AD21-650E2CA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F9CA-9981-4A1A-B938-B38E155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A6F0-EF4C-41F7-8DF8-484D9368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7D9-1783-4BE1-9DFB-4A64638B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8F57-ACB7-4FB7-B3A9-78B8DE6B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2401-2920-4503-8FF3-B1678698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EA68-D481-4B5F-92F0-F5EAF78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685A-259C-4D3C-AE6E-BD00A813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73F2-CF2C-4FE1-BED0-D1474816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8222-E2FE-4F0C-A66F-EC957557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82C-65B4-49D8-A12F-2C9C1963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4110-1BE3-4CC2-8DC3-BFD5CBB1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EEC1-A09D-4C10-B789-A12B47FC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5387-7D77-442A-B9DC-A30F311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2212-1D04-413D-85B3-56778D20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F978-12B9-4FDB-8CD2-C0FEFF7C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C4ED-9FBA-4817-B134-A5E8817C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0533-8B9D-4535-89BE-CEA7DBA3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B3CE-4A95-4013-9D50-1C0846ED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F093-B4BE-4AC7-A4DA-4BF672D1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3588-6723-4222-AB16-C3F207DF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BE7-2237-4244-B9FD-6A79267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E7E0-6618-4073-8D81-DB34F7F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36EA-F93D-430D-BD8C-DAFD299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0287-DA31-40E9-A61B-388E650A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B3B1-88BA-4F80-BD7F-D58C42E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823A-EABC-4A83-8BDF-C233404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CC6B-305F-41E5-BB79-2BAE41B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DDD9-A7C6-4127-A58B-88A4328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FE00-AC53-4B1A-A530-5A3F9602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6F91-955B-4BA8-93A7-BD671E28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BCD2-3534-4EAB-A97B-81B2CDF4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D83-6ACC-4D6C-A9A0-2FF522D5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108F-B14C-4413-9AE3-980C6F8F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1C9BB-6B25-4379-88A5-8531C84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368D-8B04-47CE-864A-D51E968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04AE-52EB-4A86-9C35-9593717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A38B-7346-49BF-9558-49D7EE1B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A5D8B-C45C-4C4B-9487-0D86EB8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AAD9-F35B-453D-9C18-A1A4BD3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B234E-5738-435F-8AD1-B363D08D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803E-CF92-4E26-AF57-61ED5221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42A2-6F58-4B6C-93A6-F61852E6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9B5-0E3E-4DFB-A7DC-7E6CE72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9236-9882-4B0A-AF74-DFA07F17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2470-1A5B-49A5-B573-1F980623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E776-6E17-4062-A662-5311223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7CC4-38F2-4151-A253-F480709C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59C9C-FE89-4824-B788-72EF6AC6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2099-61EC-458D-B07B-7EF816C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D95C-FDBC-4958-83C1-E64A68D4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4682-7CF5-449B-909D-30802B7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91C1-DF9F-4FF2-8024-46EDDCB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13BE-8AE9-4A8A-9409-3CDB193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A6B-B3AF-49A3-AE9A-51453F3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7DAB8-1F44-4C97-8A5E-1D86256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C3200-4F06-4922-AEB3-0C0BA317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AA192-150F-4EEF-B970-735E61C2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B8B33-D075-4EDF-841C-EB77731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5E6C-D3DF-4968-9214-48C42D91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1C15-4011-43A6-A38D-ABA69553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36092-E338-4843-A2F8-B243FB5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1177-2654-4579-AA51-2E9DF02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58933-620F-47E7-B14B-F183A7E1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5CA0B-D5DC-4DDC-B13D-E225DFC5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DF2-E16A-49EA-B43B-6B8F4CA1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62F61-BB2B-4C04-8D2E-A8243C5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00B1-565A-45EF-A5BE-39BF5329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8B3E-43CA-4555-9197-13C7EC94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821A-22E3-4562-B69E-27E3DEF2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1332-66FB-4F28-955B-3C1B0612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95B5-4B6F-4108-A1CB-EEEEF1C1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A561-A9BF-4F15-A94E-DBAD8F5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1DFB-69AF-46FC-A819-B96C57ED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2CABC-9B4F-443B-A4E3-E5F326A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8592-507C-4F5D-897B-730C3C6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355-F0E9-431D-863A-70675BC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4389D-CBD0-409D-8148-90E95659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1AA4-6030-405C-9B51-FC0A848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FEE7-0CD3-4BFF-BBE1-DE43BC9A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19FC-B42F-46DD-824A-50B2010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BB04-D4F8-402B-959F-EA0ABDEA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1CCC-A00E-4BE2-BC9C-F5EAB34F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60C85-576B-43E9-8F83-698C5D5A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2BC34-97D4-4090-BAE2-67CFAFEB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768CB-DB9D-41E8-A77D-AC00DA4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BE029-1BA9-41B0-BADD-726B88A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BE69-7F49-4B89-982E-6AD57B7A97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3AB9-60D1-49B5-A2A3-17D31C8EB0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95D8-B1DA-44DF-B64B-19C8AE88A1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EE13-BF67-4DD1-B295-A83976B088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852-4D03-42DB-ABFC-F415A0A672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D1AF-1454-4F35-97EA-E431B8C073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3AE-336F-4277-8092-F1C93C8202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88EC-0335-44EE-9642-ECBB69BAB0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5A72-8BDD-41E1-B3F2-C2F5407955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4885-4F04-4A4D-AD8D-246186BEBF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E07D-59BE-4127-AA99-1C80B4C3C0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D85-B939-4777-BC35-6B0793EE32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2 Prosbu našu, Pan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osbu našu, Pane č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a teraz rozísť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aždého z nás ochraň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 nám svoje požehn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môž nám vo viery b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ch sme dnes i 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tvoj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1:15Z</dcterms:modified>
  <cp:revision>23</cp:revision>
  <dc:subject/>
  <dc:title>Je veľký náš Pán, on slávy je Kráľ Nech do všetkých strán  spev vrúcnych znie chvál.</dc:title>
</cp:coreProperties>
</file>